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7A1-DBA2-4FF1-A625-80129918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A8D-6C5D-4F5E-8D03-E422D8C6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2F6-76F4-4F40-9B1B-28CD253F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2A9-7E12-4F49-88CD-7FA6216E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02D-335B-44B6-808D-DAD1FA2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C59-75CD-4C8F-AC13-79069906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4FD-02BF-49FC-B16E-B09766D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281-E179-4BD1-ADFD-8DD3D22D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357-EDEA-484C-837E-A21192BD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C0C-0293-41FF-8CAF-DED64A1C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CEA-91B3-41A4-9B3D-CC0174A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EB3-74EB-4B67-BCF1-34F34E4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6BAB-0690-4931-9D63-2B1FBA8EF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6320" y="1676520"/>
            <a:ext cx="9067680" cy="3581280"/>
            <a:chOff x="76320" y="1676520"/>
            <a:chExt cx="9067680" cy="3581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76320" y="1676520"/>
              <a:ext cx="498456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4975200" y="1676520"/>
              <a:ext cx="4168800" cy="358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00" y="0"/>
            <a:ext cx="6116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, featureless, grey, like high f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0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05320"/>
            <a:ext cx="944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, grey, globular mases in lines, groups, or waves, heavy rolls, irregular overcast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ud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-2971800" y="1523880"/>
            <a:ext cx="10515240" cy="4952880"/>
            <a:chOff x="-2971800" y="1523880"/>
            <a:chExt cx="10515240" cy="4952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-2971800" y="1523880"/>
              <a:ext cx="5780160" cy="49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2709000" y="1523880"/>
              <a:ext cx="48344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2819520" y="2209680"/>
            <a:ext cx="4952880" cy="358164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ly outlined, puffy, billowy, flat based, swelling tops, fair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1295280"/>
            <a:ext cx="221004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ly outlined, puffy, billowy, flat based, swelling tops, fair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719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5486400"/>
            <a:ext cx="6477120" cy="164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e, heavy, dark massive thunder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showers, explosive top, great vertic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 topped plume blown into anvil shaped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00400" y="5867280"/>
            <a:ext cx="647712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tically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nse, heavy, dark massive thunderst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showers, explosive top, great vertical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rrus topped plume blown into anvil shaped 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9520" y="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– 43,000 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120" y="0"/>
            <a:ext cx="8623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py, feathery, hairlike, delicate fibers, streaks or p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533520" y="-39600"/>
            <a:ext cx="10287000" cy="689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1143000" y="533160"/>
            <a:ext cx="2209680" cy="1904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680" y="0"/>
            <a:ext cx="847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tufts, in lines or groups, sometimes in ri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7640" t="31116" r="35771" b="40000"/>
          <a:stretch/>
        </p:blipFill>
        <p:spPr>
          <a:xfrm>
            <a:off x="-1600200" y="1981080"/>
            <a:ext cx="5943600" cy="3435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0"/>
            <a:ext cx="6370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 of fused sheets of ice crystals, m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 and moon ha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0" b="12909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ud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1676520"/>
            <a:ext cx="10515240" cy="4952520"/>
            <a:chOff x="76320" y="1676520"/>
            <a:chExt cx="10515240" cy="49525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76320" y="1676520"/>
              <a:ext cx="5780160" cy="49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5757120" y="1676520"/>
              <a:ext cx="4834440" cy="49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990720" y="3048120"/>
            <a:ext cx="6019560" cy="152388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33520" y="-39600"/>
            <a:ext cx="10287000" cy="689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3352680" y="533160"/>
            <a:ext cx="1828800" cy="3276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9960" y="0"/>
            <a:ext cx="389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of cotton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480" y="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500 – 20,000 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40" y="0"/>
            <a:ext cx="902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to thick with no halos, sun’s outline just visible, gre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ud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320" y="1676520"/>
            <a:ext cx="10515240" cy="4952520"/>
            <a:chOff x="76320" y="1676520"/>
            <a:chExt cx="10515240" cy="49525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76320" y="1676520"/>
              <a:ext cx="5780160" cy="49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5757120" y="1676520"/>
              <a:ext cx="4834440" cy="49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914400" y="4419720"/>
            <a:ext cx="6858000" cy="152388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42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00" y="0"/>
            <a:ext cx="6094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y dark low clouds with drizzling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5:15:07Z</dcterms:created>
  <dc:creator>Lensyl Urbano </dc:creator>
  <dc:description/>
  <dc:language>en-US</dc:language>
  <cp:lastModifiedBy>Cumberland County Schools</cp:lastModifiedBy>
  <dcterms:modified xsi:type="dcterms:W3CDTF">2010-10-11T18:02:11Z</dcterms:modified>
  <cp:revision>1</cp:revision>
  <dc:subject/>
  <dc:title>Cloud Types</dc:title>
</cp:coreProperties>
</file>